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9.wmf" ContentType="image/x-wm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333-B6BC-4144-A7D5-C261D02E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BBB-7AD0-4780-A3BE-191FFA4E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F43-E989-482B-B55B-65886AB2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DD99-DCEE-4C67-ABA7-EC0CD179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F0E-E8E8-4D70-BDD8-E24C3DF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012-C250-4453-90C0-95DF59CD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B63-CD03-48C3-A77E-2039191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2D7-F47A-450E-87EB-18035A39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0DB-6D4D-4862-8D10-DCD6E06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BC5-D841-42ED-AC30-CF8B631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AE0-2E18-4BD3-9D25-9BC9E6E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9A5-01FF-49B1-A38F-848C65E7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2F68-EF79-4B3D-96F1-2B9E49B8A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53.photobucket.com/albums/g43/hamidraza/Manchester_United.jpg" TargetMode="External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keltonsports.com/images/soccer_balls/championship.gif" TargetMode="External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3.bp.blogspot.com/_9Xs0hWV6IlI/SwrMwRjxLLI/AAAAAAAAACw/29m06NDq9xw/s1600/Teams+020.jpg" TargetMode="External"/><Relationship Id="rId2" Type="http://schemas.openxmlformats.org/officeDocument/2006/relationships/hyperlink" Target="http://3.bp.blogspot.com/_9Xs0hWV6IlI/SwrMwRjxLLI/AAAAAAAAACw/29m06NDq9xw/s1600/Teams+020.jpg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3.bp.blogspot.com/_9Xs0hWV6IlI/SwrMv-_b8AI/AAAAAAAAACo/bIp2jjgT-HU/s1600/Teams+019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2.bp.blogspot.com/_9Xs0hWV6IlI/SwrL71zmmMI/AAAAAAAAABY/0r8E-KkF1hA/s1600/Teams+00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ams_018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eams_018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00200" y="54100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Aconsej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verdur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bk00014_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cc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Al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verduras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81840" cy="3886200"/>
          </a:xfrm>
          <a:prstGeom prst="rect">
            <a:avLst/>
          </a:prstGeom>
          <a:ln w="0">
            <a:noFill/>
          </a:ln>
        </p:spPr>
      </p:pic>
      <p:pic>
        <p:nvPicPr>
          <p:cNvPr id="69" name="bk00014_" descr=""/>
          <p:cNvPicPr/>
          <p:nvPr/>
        </p:nvPicPr>
        <p:blipFill>
          <a:blip r:embed="rId2"/>
          <a:stretch/>
        </p:blipFill>
        <p:spPr>
          <a:xfrm>
            <a:off x="1981080" y="167652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 rot="5400000">
            <a:off x="-2743560" y="28954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lorí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886200" y="32000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294920" y="3809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886200" y="32763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humbnai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2514600" y="990720"/>
          <a:ext cx="355752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990720"/>
                    <a:ext cx="35575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humbnai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50760"/>
            <a:ext cx="7162560" cy="675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819520" y="990720"/>
          <a:ext cx="3557520" cy="47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990720"/>
                    <a:ext cx="35575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 txBox="1"/>
          <p:nvPr/>
        </p:nvSpPr>
        <p:spPr>
          <a:xfrm>
            <a:off x="2286000" y="380880"/>
            <a:ext cx="4300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La Energ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fruitandvegetables-main_Full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Teams+011" descr=""/>
          <p:cNvPicPr/>
          <p:nvPr/>
        </p:nvPicPr>
        <p:blipFill>
          <a:blip r:embed="rId2"/>
          <a:srcRect l="22224" t="-614" r="22221" b="0"/>
          <a:stretch/>
        </p:blipFill>
        <p:spPr>
          <a:xfrm>
            <a:off x="2362320" y="304920"/>
            <a:ext cx="4572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ruitandvegetables-main_Full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143000" y="2438280"/>
            <a:ext cx="716292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ff33"/>
                    </a:gs>
                    <a:gs pos="100000">
                      <a:srgbClr val="33cc33"/>
                    </a:gs>
                  </a:gsLst>
                  <a:lin ang="13500000"/>
                </a:gradFill>
                <a:latin typeface="Arial Black"/>
              </a:rPr>
              <a:t>Un dieta balances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ff33"/>
                  </a:gs>
                  <a:gs pos="100000">
                    <a:srgbClr val="33cc33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19836010_30a34a3271" descr=""/>
          <p:cNvPicPr/>
          <p:nvPr/>
        </p:nvPicPr>
        <p:blipFill>
          <a:blip r:embed="rId1"/>
          <a:srcRect l="0" t="11999" r="22398" b="30669"/>
          <a:stretch/>
        </p:blipFill>
        <p:spPr>
          <a:xfrm>
            <a:off x="304920" y="1981080"/>
            <a:ext cx="3317760" cy="3657600"/>
          </a:xfrm>
          <a:prstGeom prst="rect">
            <a:avLst/>
          </a:prstGeom>
          <a:ln w="0">
            <a:noFill/>
          </a:ln>
        </p:spPr>
      </p:pic>
      <p:pic>
        <p:nvPicPr>
          <p:cNvPr id="44" name="96442418_49a3808229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51051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ams_0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14600" y="1371600"/>
            <a:ext cx="4619520" cy="30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entrenars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81080" y="457200"/>
          <a:ext cx="5119920" cy="583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457200"/>
                    <a:ext cx="5119920" cy="58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133720" y="228600"/>
          <a:ext cx="4645080" cy="529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28600"/>
                    <a:ext cx="464508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 txBox="1"/>
          <p:nvPr/>
        </p:nvSpPr>
        <p:spPr>
          <a:xfrm>
            <a:off x="2971800" y="5715000"/>
            <a:ext cx="3314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s Consej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12193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eams+02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600200"/>
            <a:ext cx="5105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d60093"/>
                </a:solidFill>
                <a:latin typeface="Times New Roman"/>
              </a:rPr>
              <a:t>Estirarse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ams+01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Relajar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ams_00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02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El estré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ams+00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143000"/>
            <a:ext cx="45705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304920"/>
            <a:ext cx="51814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recer</a:t>
            </a:r>
            <a:endParaRPr b="0" lang="en-US" sz="2400" spc="1" strike="noStrike">
              <a:ln w="349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46" name="3519836010_30a34a3271" descr=""/>
          <p:cNvPicPr/>
          <p:nvPr/>
        </p:nvPicPr>
        <p:blipFill>
          <a:blip r:embed="rId1"/>
          <a:srcRect l="0" t="11999" r="22398" b="30669"/>
          <a:stretch/>
        </p:blipFill>
        <p:spPr>
          <a:xfrm>
            <a:off x="228600" y="3048120"/>
            <a:ext cx="331776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96442418_49a3808229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510552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eams%20Sweat%202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3248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w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38280" y="533520"/>
            <a:ext cx="41529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ud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ams+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eams+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676520" y="685800"/>
            <a:ext cx="5715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El atletism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ams+0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eams+00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895480" y="5686560"/>
            <a:ext cx="38862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lancead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alud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alud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09480" y="914400"/>
            <a:ext cx="7848720" cy="3352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49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ALUDABLE</a:t>
            </a:r>
            <a:endParaRPr b="0" lang="en-US" sz="24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ams+010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3880" y="152280"/>
            <a:ext cx="591516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antenerse Sano(a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Teams+010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ams+0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38080" y="2438280"/>
            <a:ext cx="72392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utritivo(a)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6:17:09Z</dcterms:created>
  <dc:creator>user2</dc:creator>
  <dc:description/>
  <dc:language>en-US</dc:language>
  <cp:lastModifiedBy>user2</cp:lastModifiedBy>
  <dcterms:modified xsi:type="dcterms:W3CDTF">2009-11-24T16:20:21Z</dcterms:modified>
  <cp:revision>2</cp:revision>
  <dc:subject/>
  <dc:title>Vocabulario</dc:title>
</cp:coreProperties>
</file>